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AC9-3342-470D-A801-8F4E45E5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3B4-3603-4593-8431-C4DBF83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715-95B0-4E90-8995-5EBDFAC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4A0-77FC-404F-8ACC-70CCCC2C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942-B3FC-4473-888C-EDE1D4E1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11E-7CEC-4B54-BC58-03B22CAB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4F8-B5ED-4F89-8E0A-8B839831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D346-73CE-4549-912A-8512F51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6A8-5693-4B46-93CF-859D2D17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A106-073C-4C26-A03A-25EFB85E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255D-8778-4B04-B6E3-4FC626F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6B4-AE66-4529-939E-688673F7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1B7E-B17E-41EE-A60A-37F4225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9E4A-983C-4C64-85C6-92BBBB7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559E-17E5-490A-9339-41E8CA12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3202-2F90-4EDA-8D83-80946118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074F-36EF-4B8F-8CB6-99EE2018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26E-14E6-434D-A9B6-553ABCBB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89E-B000-4099-9F06-66C74494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089-E3D3-4E8D-AB85-99DD949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07B-32EB-4A16-8EDB-8B5482DA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288-BDC7-49BC-8114-31044D5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25C-96C6-4C64-A967-F3FD6A4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652-341B-4F51-B785-83E09D3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BCC6-A4C5-4730-B4B2-66957387C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0B8-4C34-4BEF-B3A8-8E44FCA32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hesis or Comb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r more substances chemically combine to become one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   +   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  +  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_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724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8862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886200"/>
            <a:ext cx="228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3886200"/>
            <a:ext cx="228600" cy="228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3886200"/>
            <a:ext cx="22860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2004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Rxns. Cont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ubstance breaks down into two or more subst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+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 + 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44956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449568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449568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8098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64832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54100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46483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Rxns.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ingle element switches placement with the anion or cation of another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  +   C                           AC   +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                                     +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l   +  K                    Na   +   K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7242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46483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4648320"/>
            <a:ext cx="304920" cy="304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46483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4648320"/>
            <a:ext cx="30492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80988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48006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563868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Rxns. Co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ations and anions of two different compounds switch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    +      CD                         AD       +     C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+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l     +   MgOH                KOH     +   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45720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5720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572000"/>
            <a:ext cx="304920" cy="304920"/>
          </a:xfrm>
          <a:prstGeom prst="plus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4572000"/>
            <a:ext cx="304920" cy="304920"/>
          </a:xfrm>
          <a:prstGeom prst="plus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5720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45720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457200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33920" y="3809880"/>
            <a:ext cx="1676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7242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563868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457200" y="3808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+ K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+ 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304920" y="228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) 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152280" y="9907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ervation of ma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ys that you mus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al amounts of reactants an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never change the chemical formulas in the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*DO NOT CHANGE THE CHEMICAL FORMULAS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only alter the equation to balance it by add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effici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big numbers in from of a chemical formula to make everything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99800" y="4800600"/>
            <a:ext cx="891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____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9144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____K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0" y="8380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____K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2666880" y="685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0" y="7621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___Pb(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___K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___Pb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____K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45720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Reactan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4419720" y="1523880"/>
            <a:ext cx="3581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b-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K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1752480" y="2743200"/>
            <a:ext cx="1752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5715000" y="2743200"/>
            <a:ext cx="175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  <a:ea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743200" y="533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5943600" y="533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1026000" y="609480"/>
            <a:ext cx="673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2K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2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000080" y="2766960"/>
            <a:ext cx="7321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Chemical Reactions and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Rectangle 3" descr=""/>
          <p:cNvPicPr/>
          <p:nvPr/>
        </p:nvPicPr>
        <p:blipFill>
          <a:blip r:embed="rId1"/>
          <a:stretch/>
        </p:blipFill>
        <p:spPr>
          <a:xfrm>
            <a:off x="-426960" y="1962000"/>
            <a:ext cx="10120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380880" y="380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ctice Equation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530640" y="1066680"/>
            <a:ext cx="693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+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→    Sn +   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3581280"/>
            <a:ext cx="883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(g)   +   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(g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   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(g)+   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  <a:ea typeface="Arial"/>
              </a:rPr>
              <a:t>O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955440" y="2286000"/>
            <a:ext cx="521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   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N</a:t>
            </a:r>
            <a:r>
              <a:rPr b="0" lang="pt-BR" sz="40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+     H</a:t>
            </a:r>
            <a:r>
              <a:rPr b="0" lang="pt-BR" sz="40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→     NH</a:t>
            </a:r>
            <a:r>
              <a:rPr b="0" lang="pt-BR" sz="40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pt-BR" sz="40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882000" y="4876920"/>
            <a:ext cx="78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Na(s) +    HCl(aq) →     NaCl(aq) + H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228600" y="5335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Georgia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g)   +      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g)   --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  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g) +    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28600" y="17524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Georgia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+       F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--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     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O   +        Fe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29718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NaCl(aq) +    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aq) →    Na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eorgi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  <a:ea typeface="Arial"/>
              </a:rPr>
              <a:t>(aq) +      AgCl(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255"/>
                </a:solidFill>
                <a:latin typeface="Verdana"/>
              </a:rPr>
              <a:t>A) Chemical Reaction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3920" indent="-2196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mical Reaction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process that turns one set of chemical substances into another one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2196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 reactions are studied by specialized scientist calle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emist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study all thing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3920" indent="-219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oine-Laurent de Lavois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ed to be the father of modern chemistry, thanks to his intensive study of reactions during the mid 170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116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705"/>
                </a:solidFill>
                <a:latin typeface="Verdana"/>
              </a:rPr>
              <a:t>Was the first to publish the law of conservation of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116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705"/>
                </a:solidFill>
                <a:latin typeface="Verdana"/>
              </a:rPr>
              <a:t>The total mass of things that go into  a reaction(products) equals the total mass of all things that are produced during the reaction(produc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116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5705"/>
                </a:solidFill>
                <a:latin typeface="Verdana"/>
              </a:rPr>
              <a:t>Mass is neither created or destroyed in a RXN, it only changes for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www.general-anaesthesia.com/images/antoine-lavoisier.jpg"/>
          <p:cNvPicPr/>
          <p:nvPr/>
        </p:nvPicPr>
        <p:blipFill>
          <a:blip r:embed="rId1"/>
          <a:stretch/>
        </p:blipFill>
        <p:spPr>
          <a:xfrm>
            <a:off x="1295280" y="0"/>
            <a:ext cx="677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do we know when a chemical reaction has taken pl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685800" y="12952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bsorb or Release of Heat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gets hot or gets cold or releases ligh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 of a Ga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can you smell it, like something rott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do you see bubbles in the liqu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mation of a solid, called a precipit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it “rains” or precipitates out of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it is usually a different col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http://www.ric.edu/faculty/ptiskus/chemical/index_files/fireworks-sparkler.jpg"/>
          <p:cNvPicPr/>
          <p:nvPr/>
        </p:nvPicPr>
        <p:blipFill>
          <a:blip r:embed="rId1"/>
          <a:stretch/>
        </p:blipFill>
        <p:spPr>
          <a:xfrm>
            <a:off x="4640400" y="4343400"/>
            <a:ext cx="4503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emical Vs. Physical Chan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hanges are only concerned with changes in energy or states of matter ( S,L,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and ending material are the same thing, thought they may look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- Ice melting, Water evapor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04920" y="2286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) Writing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380880" y="990720"/>
            <a:ext cx="815364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a clear aqueous solution of potassium iodide is mixed with a clear aqueous solution of lead nitrate it produces(yields ) a clear solution of potassium nitrate and a yellow solid precipitate called lead(II) iod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K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b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(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 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Double Bracket 3"/>
          <p:cNvSpPr/>
          <p:nvPr/>
        </p:nvSpPr>
        <p:spPr>
          <a:xfrm>
            <a:off x="380880" y="3505320"/>
            <a:ext cx="335304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305000" y="434340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Double Bracket 5"/>
          <p:cNvSpPr/>
          <p:nvPr/>
        </p:nvSpPr>
        <p:spPr>
          <a:xfrm>
            <a:off x="4038480" y="3505320"/>
            <a:ext cx="3048120" cy="68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4800600" y="4343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ymbols Used in an Equ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means gaseous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) means liquid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) means solid ph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means dissolved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yield (produ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26708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riting Word Eq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 silver nitrate reacts with solid copper metal to form solid silver and copper (II) nit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00:37Z</dcterms:created>
  <dc:creator>Administrative Services</dc:creator>
  <dc:description/>
  <dc:language>en-US</dc:language>
  <cp:lastModifiedBy>Administrative Services</cp:lastModifiedBy>
  <dcterms:modified xsi:type="dcterms:W3CDTF">2011-10-17T13:32:09Z</dcterms:modified>
  <cp:revision>2</cp:revision>
  <dc:subject/>
  <dc:title>Slide 1</dc:title>
</cp:coreProperties>
</file>